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375-CCAD-46AB-A491-DBFC69D2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FEA-FB8D-4889-A926-72B77129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439-6353-4BD3-924D-2EC08DFB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BB4-5F2C-4FDA-A33E-BA44164D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D809-ABDD-4569-A580-1FDF3359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9654-8585-4F21-955D-A5037ED3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31C1-E26F-49DB-BF40-70B29A1C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857A-0646-4A23-A17F-67CAE30C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34EC-DADA-40F0-A629-F69AC89D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BA6A-F00B-4456-99DC-08EEE949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8BC1-D542-4DC3-B87C-73D8DB48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4FD-66C4-4A6C-B2FA-05A5F5EC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3990-B3FC-4371-8ADE-D9DFDC01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FE61-E60C-4703-9DE7-0827DED1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5BB0-C3AE-401F-807E-D2884BF0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75D6-E918-4894-985B-13BAD114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1577-BD10-46AE-99B4-A3141D44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4DC-11CE-4D14-83B0-2C842F7C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8D4-98F6-4B7A-BA6E-1B763343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F2C-2998-49CA-AE9B-B96EDFF3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694-5FB1-4622-AE4F-33D3D4A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B2C-7BA8-487D-94AC-DCDC1F89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826-1330-4B19-B1AE-F55EC7A2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586-A57F-4CF1-9D0A-BDFC8C9A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BB65-7755-41EA-8DB8-3E9D1E4C4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0AFE-3A99-4E62-848F-5084EDECD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ALING WITH TRAUM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UMA IS TRANSFO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LIKE A SLOW HEALING SIC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OLATES US FROM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ENCE MECHANISMS ARE STR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FEEL INSECURE IN THE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HAS BECOME UNSA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FACE AND EXISTENTIAL CRI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MPLICATO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CEIVE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CHANGES EXPERIE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PROBLEMS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RESS BUFF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OTIONAL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EEM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MENT HARD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ITIONED HARD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CEIVE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ARDINESS PROFI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GET STUCK INTO TA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WITHOUT COMPLA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LLI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M UNDER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OTIONALLY 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HIPS 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T WITH MOTOR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OV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HE OLDEST IN FAM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Y 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TROL ENHANC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TH/PHILOSO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XATION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LIFE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UNSOLVE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ROLE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CUTE STRESS DISORD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TSD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OKEN OF BEFORE THREE MON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STRESS DISORDER INVO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INTRUSION – DREAMS, FLASHBACKS MEMORIES COMING IN UNW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ANCE AND NUMBING RESPONSES AS WE TRY TO BLOCK OUT DI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-AROUSAL – STARTLE RESPONSE AND IRRITABILITY AND 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IS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ICAL INCIDENT STRESS MANAGEMENT INVOLVES MANY FACTORS WORKING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R  POLICIES /ACCOU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UCATION ON STRESS/TRAUMA FOR 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ER SUPPORT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/SUPPORT FOR PE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SELLING ONE TO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BRIEFINGS/DEFUS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OUS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BRIEFING    Part 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E O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KNOWLEDGE, SUPPORT, HEA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SURE, STRESS MANAGE, NOT 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BRIE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BREAKS UNTIL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BRIEFING Parts 2 and 3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GE 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S S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E YOURSE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 WHAT YOUR ROLE W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GE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TS S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ERE YOUR FIRST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ERE YOU THINKING AT TH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HOUGHTS DID YOU TAKE A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HOUGHTS HAVE STAYED WITH Y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2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EBRIEFING STAGES 4 AND 5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GE 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TIONS S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AS THE WORST THING FOR Y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HAD THE GREATEST 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COULD ELIMINATE ONE 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GE 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PTOMS S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YOU KNOW THIS HAD 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HAS YOUR BEHAVIOUR CHANG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THING DIFFERENT ABOUT Y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DISTRESS SINCE THE INCI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4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2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20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EBRIEFING STAGES 6 AND 7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E 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OLOGY OF STRESS/TRAU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PTOMS - DANGERS - G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VERY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E 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-ENTRY 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E NOT PA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F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5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2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2" dur="2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AUMATOLOG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INAR NOTES FROM PRESENTATIONS DELIVERED IN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R JOHN C MCEW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MATERIAL © DR JOHN C MCEW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JANUARY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OF THE G.A.S. TO HANDLE OVERWHELMING DEMANDS = THE HORMONAL SYSTEM COLLAP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MUCH STIMULI OVERTAXING COPING ABILITY = NO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E TO THREAT PARALYZES AS WE PERCEIVE WE ARE UNABLE TO COPE WITH THE DANG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 WORKING DEFINI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UMA IS WHERE OVERWHELMING DEMANDS ARE PLACED INTENSELY ON AN INDIVIDUAL, SO THAT THEIR COPING RESOURCES ARE EXHAUSTED IN A  VERY SHORT TIME.    THE STRESS REACTION SWITCHES ON AND GOES INTO OVERDRIVE.   IT INVOLVES MULTI FOCAL STRESSORS, HAS A HEAVY GRIEF COMPONENT, AND PROVOKES AN EXISTENTIAL CRISIS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T DOES TO U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TAXES OUR RESOURCES FOR COPING.   ASSESSMENT/APPRAIS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CEPTION=WE CANNOT MEET THIS THREAT!   HARM AND LOS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 ARE FEA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YSTEM TURNS ON ITSELF AND BY OVER-REVVING RUNS US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VARIAB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YPE OF DISA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ATION AND INT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IMPACT/CONTROL F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 FOR RECUR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PERCEIVED 4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 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FITNESS/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/STAGE LIFE TRANS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ATH AS A STRESS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 OF THE D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PTANCE, 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ION OF E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HAT DEATH WILL M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/MANNER OF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PRIMAL RESPON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M 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ABLE ROUTIN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E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NG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RIEFING AROUND THE F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GS, POEMS, ART, SPE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RAUMA COPING “VIRTUES”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CESTRAL VIRTUES HAD COPING VALUE AFTER PRIMAL CONFRONTATIONS WITH DEAT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URVIVAL A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AC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A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YA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STI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NE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Ewan Family</cp:lastModifiedBy>
  <dcterms:modified xsi:type="dcterms:W3CDTF">2004-10-09T16:54:37Z</dcterms:modified>
  <cp:revision>8</cp:revision>
  <dc:subject/>
  <dc:title>PowerPoint Presentation</dc:title>
</cp:coreProperties>
</file>