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481-D532-4AB2-A0D9-9C5CFBC6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361-4057-434A-AE98-A51DFC4A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289-2BFD-4D02-AF50-C90460F1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7FA-8C22-4CC7-9E57-BF687D60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72BA-56E3-4A15-95B5-BA3B95C0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E056-85A0-4B67-A74B-BD90159C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A4F0-B304-4070-BC69-89D99646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A611-372D-4627-A6BB-6B73EB65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B953-AAE4-4612-82C3-3C707961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812E-EFCA-420C-9445-3C9AE503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BF78-BFF0-46E1-AFB7-B046AEEC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E6A-A219-4601-9EBF-E478D7B4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D914-B66D-41AD-BA58-DF11F8E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E41B-A4E6-4C01-AF6C-55C963B9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414F-421B-4C05-AC7F-D7858B0C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8BA7-FC5C-4E10-A25D-9D4D7BEA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F467-1A6B-4197-A17B-D05C130C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BA1-B0DE-46C7-9E1B-373E8CCA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F72B-E5EA-415F-A3FD-1DD6A881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E1A-8107-4545-B42D-39DF8746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0F7-AAB4-4ADF-B5A1-5AAF8304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DD4-5B11-4320-B4BE-3BDC475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CBE-878A-49C7-8337-757121D9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3FE-66BE-40A4-8EDE-E3F07C50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EACE-036B-4FAA-9F64-66305E240B3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E975-1A70-4629-BE80-436219767FC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47d"/>
                </a:solidFill>
                <a:latin typeface="Comic Sans MS"/>
              </a:rPr>
              <a:t>SUDDEN GRIEF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WHEN OUR WORLD IS ALTERED FOREV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© DR JOHN C MCEWAN 12 JULY 20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7d47d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7d47d"/>
                </a:solidFill>
                <a:latin typeface="Comic Sans MS"/>
              </a:rPr>
              <a:t>GRIEF IS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Comic Sans MS"/>
              </a:rPr>
              <a:t>NATURAL BUT STILL PAINFU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WHAT IS NATURAL CAN STILL BE OVERWHELM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TOO MANY GRIEFS TOO QUICKLY OVERLOADS COP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OUR COMMUNITY IS DISTURBED BY GRIEF – FAMILY “ROBB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OUR ANCESTORS HAD ACCEPTED RITUALS TO ASSIST THE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omic Sans MS"/>
              </a:rPr>
              <a:t>FINDING NEW RITUAL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RITUALS PROVIDE SAFE CHANNELS TO PROCESS POWERFUL EMOTION/THOU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THE PAIN OF LOSS DOES NOT GO AWAY BUT EBBS AWAY AS A NEW PLACE IS FOUND IN THE GROUP FOR THE ONES PHYSICALLY LOST TO IT THROUGH DEATH. (OUR GROUP STILL ENCOMPASSES THEM – THEY REMAIN A PART OF US AND ALL WE 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omic Sans MS"/>
              </a:rPr>
              <a:t>THE SAME YET DIFFEREN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THE SAME DEATH(S) WILL PRODUCE MANY DIFFERENT GRIEFS – EACH WALKS A PAT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LOSS OF A LOVED ONE MAY BE A GREAT GRIEF THAT WILL TAKE YEARS TO PROCESS SLOW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Comic Sans MS"/>
              </a:rPr>
              <a:t>LOSS OF A FRIEND MAY BE A BODY BLOW BUT MAY RESOLVE QUICKLY - NO JUDGING HERE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omic Sans MS"/>
              </a:rPr>
              <a:t>THINGS TO D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MOURNING IS THE THING TO DO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OUR RITUALS – GROUP/INDIV TO ASSIST US ON OUR PATH TO ACCEPT AND MOVE ON IN THE PLACE THE LOVED ONES LOV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ALLOW THESE THINGS TO EMERGE FROM THE GROUP ITSELF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SEEK SPECIALIST HELP IF IT WILL ASSIST YOU – EARLY NOT LATE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23:19:06Z</dcterms:created>
  <dc:creator>Esther McEwan</dc:creator>
  <dc:description/>
  <dc:language>en-US</dc:language>
  <cp:lastModifiedBy>McEwan Family</cp:lastModifiedBy>
  <dcterms:modified xsi:type="dcterms:W3CDTF">2004-10-09T16:48:36Z</dcterms:modified>
  <cp:revision>3</cp:revision>
  <dc:subject/>
  <dc:title>SUDDEN GRIEFS</dc:title>
</cp:coreProperties>
</file>